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EDDA-8AB7-4D53-9980-BF79BC23D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F359-F617-417C-8DCB-645BDCFA8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81DA-FBAC-4CB0-A5B8-72F438E3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BB2A-CAE9-4089-B620-8349E967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9831-98DA-45ED-A732-FFD5DE3B4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5E1B-CA75-4010-A684-3D78D90F6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18B1-6594-4E1A-8995-51B12D8D2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3728-DF17-45CD-B6F3-C815E901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3F5A-2156-4132-B9DB-74684B29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28AF-B7E5-436A-AAA3-C59C0345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4800-8583-4C01-8FFA-C998E5BF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D2BC-90EE-47D3-896D-B8B49C3E1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4349-CB51-4148-8D77-DEF8ADC7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3C36-CF73-4E7E-8D18-0358B5198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A16-E6E1-4269-B55D-9DF71C772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8F38-F652-4148-B5F7-04F8E110F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5734-7278-448F-8AE3-23D466A9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8BC7-230C-486C-BB49-D7582276E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1D75-AB40-4E3D-9F18-285DE5EC3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4442-DB5C-4C2F-9E18-0965A8CD8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C972-826B-452F-A96E-552505EEA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CE7-FA02-42FD-850C-53400F0CB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C1AA-7CAA-44D3-85BB-63DA3D51E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5853-67FF-47C8-B474-B8176AD9D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0FA7-3191-4D44-87E2-040EE269F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C61-B3AB-496B-A1F8-0EB933AB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9B0-7C68-47C3-9859-47D85343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17E-8D5B-4C84-BC9C-BCB00830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660-03B1-4B68-970D-768A8520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732-1179-4251-BFC7-C371B9B9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40A-8DC3-4DEE-9F35-90256B7B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AA0-38D9-4B58-B715-E86F5E1D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D63-1F08-4DE9-9EE4-20DD02A2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321-7EBD-482B-B088-9A8BD9D6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6DE-5029-4E02-9FEB-E6E799F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C78-B926-420D-B9CC-99362E5F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C1F-E828-41AA-9FF2-7B7BB77D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176D-6A8F-489A-A36F-1F3992C13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egal immigrants cross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order without the pro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perwork permitting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become citizens of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914400" y="38088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difference between a LEGAL immigrant and an ILLEGAL immig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t and hum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limate like in the Amaz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ee Enterpris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economic system is the United States economy base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ntries that rely on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INTERDEP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68580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land is too large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vernment to regulat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hasn’t the illegal cutting of the Rainforest sto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cky Mountains, Costal Plain, and Great Plains can be found on which 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there would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 reg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goods or serv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can a TRUE market economy almost NEVER exist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ndustry that produce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e instead of a produ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ervice Indus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it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66680" y="22860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ead economy - simulation that we did, what was the name of ONE of the THREE economies we talked about.  Please give me two facts about the econ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we are a mix of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culture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e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5800" y="228600"/>
            <a:ext cx="78487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United States considered a melting p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0" y="0"/>
            <a:ext cx="22860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 or South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0"/>
            <a:ext cx="20574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nomi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572000" y="0"/>
            <a:ext cx="20574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81680" y="0"/>
            <a:ext cx="22100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om Fact Extravag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 American F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e Agre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, Mexico, 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NAFTA stand for?  Which three countries are apart of NAF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untry in which industry h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laced farming as the m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c activ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INDUSTR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rming or Ran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ll of the Amazon, what is the number one cause of defores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457200" y="304920"/>
            <a:ext cx="8153280" cy="53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merigo BT"/>
              </a:rPr>
              <a:t>Final Jeopard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merigo BT"/>
              </a:rPr>
              <a:t>Teams prepare to make your WAGER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9480" y="83808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ease list and EXPLAIN the five different types of deforest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2193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ted States, Mexico, Canada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Green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FOUR countries make up North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xed Mar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economy does the U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includes 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cultu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UL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914400" y="2743200"/>
            <a:ext cx="7162920" cy="2743200"/>
          </a:xfrm>
          <a:prstGeom prst="wedgeRectCallout">
            <a:avLst>
              <a:gd name="adj1" fmla="val -21231"/>
              <a:gd name="adj2" fmla="val -717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farmer who only grows en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od for them and their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surv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term SUBSITANCE FARMER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ARGEST country in South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five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six in Ca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Economic regions are there in the US?  Can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son who hunts and 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 illeg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PO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5:50:08Z</dcterms:created>
  <dc:creator>Jerry Myers</dc:creator>
  <dc:description>Created by Jerry Myers is 1998 for a class.</dc:description>
  <dc:language>en-US</dc:language>
  <cp:lastModifiedBy>Robin Jadick</cp:lastModifiedBy>
  <cp:lastPrinted>2001-01-31T16:21:13Z</cp:lastPrinted>
  <dcterms:modified xsi:type="dcterms:W3CDTF">2011-03-29T18:00:41Z</dcterms:modified>
  <cp:revision>6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